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F8C-8196-48F8-B46D-955F47AFD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feel tired; The 8 essential amino acids; Yes, vit C is water-soluble and not stored in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8613-02C3-48FE-B182-F7367B247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(21), water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EFF-B19D-4F39-B90B-7A62EF51F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essential a.a. = methionine, tryptophan, phenylalanine, leucine, threonine, valine, isoleucine,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3826-6F39-4863-B169-9EDCD723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C52-5846-450C-BC94-AA227AA7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5D1-FB5D-47D5-AEED-D1F0F91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407-50CB-4153-96AC-2C20CDDC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7E9-58EF-417E-9CE5-6D37222D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CB0-464E-4145-8F63-4088F32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B25-87C9-4CFD-BC85-BC1F299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7B9-A75D-4C1C-B0B8-D7DB355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D23-4EFD-4D72-8A21-99B80B80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C42-FE61-4571-8469-15E93E9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FED-AA88-4B3E-841C-37234AC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61A-C20E-460A-8CDE-3F990DA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5CB-F2B6-4682-BBFF-C67B013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6EE-75C4-446D-919D-FEBD87E3D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F:\392\other392\Biology 392\Unit 3 - Chapters 2,38\molecule.gif"/>
          <p:cNvPicPr/>
          <p:nvPr/>
        </p:nvPicPr>
        <p:blipFill>
          <a:blip r:embed="rId1"/>
          <a:stretch/>
        </p:blipFill>
        <p:spPr>
          <a:xfrm>
            <a:off x="228600" y="533520"/>
            <a:ext cx="844884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FOOD &amp;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396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38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umm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F:\392\other392\Biology 392\Unit 3 - Chapters 2,38\fopyramid.gif"/>
          <p:cNvPicPr/>
          <p:nvPr/>
        </p:nvPicPr>
        <p:blipFill>
          <a:blip r:embed="rId2"/>
          <a:stretch/>
        </p:blipFill>
        <p:spPr>
          <a:xfrm>
            <a:off x="4724280" y="2938320"/>
            <a:ext cx="39625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c molecules that are needed by the body to help perform important chem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g 9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Essential Vitam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- Soluble (A,D,E,K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d in fatty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-Soluble (C,B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not be st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organic nutrients the body needs, usually in small am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in periodic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age 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Ca (bones); Fe (needed for hemoglobin); Mg (normal function of nerves and musc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t in sweat, urine and other wa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are the 6 nutrients needed by the bo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would happen if you did not eat enough carbs &amp; fa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Vegetarians may sometimes take dietary supplements. What, specifically, might they be missing in their meatless di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You ate a lot of oranges last week for a nice, healthy dose of vitamin C.  Must you eat an orange today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you know what to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tionists have analyzed how much of each nutrient you need and what foods contain the combinations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fo is compiled in the “food pyrami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ld Food Pyram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http://www.disabled-world.com/artman/uploads/pyramid.jpg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ttp://www.thefeltsource.com/New-Food-Pyramid-Large.jpg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Food Pyram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 Dietary Recommenda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3 to 5 servings of vegetab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4 servings of frui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3 servings of milk, yogurt &amp; che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6 to 11 servings of bread, cereal, rice, &amp; pa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3 servings of meat, poultry, fish, dry beans, eggs &amp; nu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Use fats, oils &amp; sweets sparing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what is “One Serving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ilk products group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about 8 oz. of milk or yogur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slices of cheese, 1/8" thick (1½ oz.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cups of cottage chees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½ cups of ice milk, ice cream or frozen yogurt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eat group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oz. to 3 oz. of cooked lean meat, poultry, or fish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egg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7 oz. tofu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cooked legumes or dried beans or pe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4 tablespoons peanut butt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nuts or seeds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egetable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ooked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raw chopped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raw leafy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to 3/4 cup vegetable juic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uit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whole medium fruit (about 1 cup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4 cup dried fru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anned fru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to 3/4 cup fruit juice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read and Cereal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slice brea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medium muff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hot dog bun or hamburger bu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bagel or english muff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4 small cracker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tortill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cold cerea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ooked cerea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ric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past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know…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days can you survive without f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days …….without wa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portant nutrient are vegetarians at risk of missing in their d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exceed the recommended amount of vitamin supplement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we need foo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EW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users.rcn.com/jkimball.ma.ultranet/BiologyPages/A/ATP.gif"/>
          <p:cNvPicPr/>
          <p:nvPr/>
        </p:nvPicPr>
        <p:blipFill>
          <a:blip r:embed="rId1"/>
          <a:stretch/>
        </p:blipFill>
        <p:spPr>
          <a:xfrm>
            <a:off x="4267080" y="2971800"/>
            <a:ext cx="44672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study of food and its effects o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d in CALORI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unt of heat energy needed to raise the temp. of 1 gm(1mL) of water by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rie = 1 kilocalorie = 10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about 2200 C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o 2800 C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body can extract energy &amp; nutrients from almost any type of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Major Nutrient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tami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s (lipi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important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loss causes problems in all bod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HYDRATES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jor source of Energ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 Forms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simple sug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uits, honey, sugar c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- &amp; di-saccha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20570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Star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ins, potatoes, vege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Cellulose/Fi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uce, bran, whole grain b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broken down, but important for moving food efficien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F:\392\other392\Biology 392\Unit 3 - Chapters 2,38\simple sugars.jpg"/>
          <p:cNvPicPr/>
          <p:nvPr/>
        </p:nvPicPr>
        <p:blipFill>
          <a:blip r:embed="rId1"/>
          <a:stretch/>
        </p:blipFill>
        <p:spPr>
          <a:xfrm>
            <a:off x="304920" y="4800600"/>
            <a:ext cx="4695840" cy="162864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8"/>
          <p:cNvCxnSpPr/>
          <p:nvPr/>
        </p:nvCxnSpPr>
        <p:spPr>
          <a:xfrm flipH="1">
            <a:off x="3123720" y="1980000"/>
            <a:ext cx="5342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1"/>
          <p:cNvCxnSpPr/>
          <p:nvPr/>
        </p:nvCxnSpPr>
        <p:spPr>
          <a:xfrm>
            <a:off x="5257800" y="1980720"/>
            <a:ext cx="4579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: Manufacture cell membranes, produce certain hormones, store ener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turate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ntains only singl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: butter, lard, other animal f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id at Room Te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saturate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 or more double or tripl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: Vegetable oi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quid at Room Te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392\other392\Biology 392\Unit 3 - Chapters 2,38\triglyc_spacefill.gif"/>
          <p:cNvPicPr/>
          <p:nvPr/>
        </p:nvPicPr>
        <p:blipFill>
          <a:blip r:embed="rId1"/>
          <a:stretch/>
        </p:blipFill>
        <p:spPr>
          <a:xfrm>
            <a:off x="6477120" y="1828800"/>
            <a:ext cx="21747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392\other392\Biology 392\Unit 3 - Chapters 2,38\aastruct.gif"/>
          <p:cNvPicPr/>
          <p:nvPr/>
        </p:nvPicPr>
        <p:blipFill>
          <a:blip r:embed="rId1"/>
          <a:stretch/>
        </p:blipFill>
        <p:spPr>
          <a:xfrm>
            <a:off x="6462720" y="3809880"/>
            <a:ext cx="2681280" cy="2438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: Provides body with material for growth &amp; rep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up parts of muscles, skin &amp;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nzym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:  20 common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can naturally produce only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 must supply oth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ESSENTIAL amino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21:04:58Z</dcterms:created>
  <dc:creator>Joanne Lilliendahl</dc:creator>
  <dc:description/>
  <dc:language>en-US</dc:language>
  <cp:lastModifiedBy>MVanElli</cp:lastModifiedBy>
  <dcterms:modified xsi:type="dcterms:W3CDTF">2010-10-21T13:48:45Z</dcterms:modified>
  <cp:revision>30</cp:revision>
  <dc:subject/>
  <dc:title>FOOD &amp; NUTRITION</dc:title>
</cp:coreProperties>
</file>